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image12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13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29B8-872F-4758-85BB-7D2F21FD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5272-5200-47AB-86DB-EBB47633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D408-1111-4E93-905D-A74CDB9B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347C-03E5-4224-8389-8221333F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8CB6-88B2-4710-B4D9-1433F908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F047-45A6-4735-A39B-C28F9053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9ED6-8819-4609-8EA5-792F0FDB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9BD0-7582-4477-B049-B4DEB1BD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B4A8-CEC4-4DAF-8B65-F7AE6633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BD4D-2651-4AA5-867C-0C217C3B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1588-2772-4709-BC5F-F13ED002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215-BC59-48A8-8341-5750C3B4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FD00-8C91-41BA-ACBA-BDF07A9F4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a meeting of people who you haven’t seen in a long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cook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g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 re-u-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15040" y="4114800"/>
            <a:ext cx="2476440" cy="198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tches i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helps gets others a job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p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 :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11800" y="1990800"/>
            <a:ext cx="2482920" cy="1960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743440" y="4199040"/>
            <a:ext cx="16192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a formal printed no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s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annou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 a-nounc-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910120" y="3139920"/>
            <a:ext cx="128448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n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plans made before h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ar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 a-rrange-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705640" y="3195720"/>
            <a:ext cx="16938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st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a house with land and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isl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home/st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 home-st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724280" y="2541600"/>
            <a:ext cx="365760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th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a coming together of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a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g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 ga-ther-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632560" y="3294000"/>
            <a:ext cx="184140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tisf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Contentment happ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 exc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s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Satis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 sat-is-fac-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75360" y="1981080"/>
            <a:ext cx="2755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-Un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Grandfathers br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un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un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 great-un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460840" y="2800440"/>
            <a:ext cx="21830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o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Pleasant sm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sw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 stin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s: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 a-ro-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180684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1584360" cy="1981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172200" y="4800600"/>
            <a:ext cx="121428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is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continued repeate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try keep g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s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pers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 per-sis-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64200" y="4114800"/>
            <a:ext cx="2776320" cy="1981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808600" y="1981080"/>
            <a:ext cx="14875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lab</cp:lastModifiedBy>
  <dcterms:modified xsi:type="dcterms:W3CDTF">2008-10-30T22:02:11Z</dcterms:modified>
  <cp:revision>2</cp:revision>
  <dc:subject/>
  <dc:title>PowerPoint Presentation</dc:title>
</cp:coreProperties>
</file>